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4FDC3-26F3-4223-93A1-EA9657F36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DCAD-E472-453D-92BC-A4D7F9A12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2539-9F75-405F-BC16-0C130B0AD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90F5-EED1-49C1-AD9A-762E8267D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6D7EE-7741-4C2B-8FD3-1F8376F991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A1235-A48D-4902-A396-850265E3FE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FC141-361C-40A3-B48C-7359ED1FED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BB655-CA3E-4FFB-95BF-C5DBA4DBA0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2F82B-799E-4580-BD77-478B381E96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FDA74-5EEE-4D63-BC12-5925045A24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1BFDAD-760A-4F31-BF42-D04AE1AE8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343D-CF0B-4F98-87C2-8E25A61A9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030E4-1CEA-43B7-A2FA-74C37F2071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68F36-9E86-4F47-820B-6D8E1B857F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8C796-85C6-4BF6-9148-9307FAD385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C083D-4F13-4369-940F-B2DAFC1C09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6D36E-E4BA-431E-94B9-2583906ACE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1A130-4C48-4354-ACC2-CFD69AA8C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2173-D71B-4CBB-8125-AEDF32451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37C1-BCF7-4A23-903F-47F14FDD9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1E447-B575-406C-A994-0F8D9FE57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4F953-E5D5-40F7-9F2E-927641482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ABD4-09E1-478D-A1EC-3966619CC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E0448-68EB-4EAE-BB50-E08D3661B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ADFD-BA58-4940-A506-E76A13ABF1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1A29-1CA6-4CBD-832A-E51EE35B545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a60b4"/>
                </a:solidFill>
                <a:latin typeface="Tahoma"/>
              </a:rPr>
              <a:t>DIAGRAM IT!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8" name="bs00175_" descr=""/>
          <p:cNvPicPr/>
          <p:nvPr/>
        </p:nvPicPr>
        <p:blipFill>
          <a:blip r:embed="rId1"/>
          <a:stretch/>
        </p:blipFill>
        <p:spPr>
          <a:xfrm>
            <a:off x="2362320" y="2817720"/>
            <a:ext cx="4876560" cy="4040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60b4"/>
                </a:solidFill>
                <a:latin typeface="Tahoma"/>
              </a:rPr>
              <a:t>Process for Managing the Performance Discuss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1295280"/>
            <a:ext cx="6248520" cy="1371600"/>
          </a:xfrm>
          <a:prstGeom prst="parallelogram">
            <a:avLst>
              <a:gd name="adj" fmla="val 113891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naging Performance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scussion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971800"/>
            <a:ext cx="274320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2971800"/>
            <a:ext cx="266688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2971800"/>
            <a:ext cx="2438280" cy="144792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48769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266688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36576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36576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4864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54864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4648320"/>
            <a:ext cx="609624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46483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20120" y="44197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14240" y="2133720"/>
            <a:ext cx="1622520" cy="577080"/>
          </a:xfrm>
          <a:prstGeom prst="rect">
            <a:avLst/>
          </a:prstGeom>
          <a:noFill/>
          <a:ln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a60b4"/>
                </a:solidFill>
                <a:latin typeface="Tahoma"/>
              </a:rPr>
              <a:t>Process for Managing the Performance Discus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1371600"/>
            <a:ext cx="6477120" cy="1371600"/>
          </a:xfrm>
          <a:prstGeom prst="parallelogram">
            <a:avLst>
              <a:gd name="adj" fmla="val 118058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anaging Performance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iscussion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048120"/>
            <a:ext cx="274320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1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efine th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pecific performanc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30481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2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escribe th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impact of th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behavior.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30481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3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xplore possibl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olutions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5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List your suggestion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r improvement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4876920"/>
            <a:ext cx="26668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4: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Consider possibl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actions and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follow-up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876920"/>
            <a:ext cx="243828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TEP 6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d on an up note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74320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36576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36576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5486400"/>
            <a:ext cx="30492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5486400"/>
            <a:ext cx="30456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0120" y="4495680"/>
            <a:ext cx="0" cy="15264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4648320"/>
            <a:ext cx="609624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3880" y="4648320"/>
            <a:ext cx="0" cy="22860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9600" y="64008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for next sl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60b4"/>
                </a:solidFill>
                <a:latin typeface="Tahoma"/>
              </a:rPr>
              <a:t>Four Components of Effective Leadershi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3505320"/>
            <a:ext cx="289584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ffective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adership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1905120"/>
            <a:ext cx="266724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cap="sq"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01480" y="1981080"/>
            <a:ext cx="1736640" cy="520560"/>
          </a:xfrm>
          <a:prstGeom prst="rect">
            <a:avLst/>
          </a:prstGeom>
          <a:noFill/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Arial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5334120"/>
            <a:ext cx="266688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95680" y="502884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1956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60b4"/>
                </a:solidFill>
                <a:latin typeface="Tahoma"/>
              </a:rPr>
              <a:t>Four Components of Effective Leadershi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3505320"/>
            <a:ext cx="2895840" cy="1447560"/>
          </a:xfrm>
          <a:prstGeom prst="rect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Effective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Leadership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1905120"/>
            <a:ext cx="266724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ader’s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litie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200400"/>
            <a:ext cx="0" cy="304920"/>
          </a:xfrm>
          <a:prstGeom prst="line">
            <a:avLst/>
          </a:prstGeom>
          <a:ln cap="sq"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ituational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3581280"/>
            <a:ext cx="2666880" cy="129564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adership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5334120"/>
            <a:ext cx="2666880" cy="129528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b51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llower’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Qualitie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95680" y="5028840"/>
            <a:ext cx="0" cy="30492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019560" y="4267080"/>
            <a:ext cx="2286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27720" y="609588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for next slid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21:52:41Z</dcterms:created>
  <dc:creator>Dianne Jones</dc:creator>
  <dc:description/>
  <dc:language>en-US</dc:language>
  <cp:lastModifiedBy>Learning Technology Center</cp:lastModifiedBy>
  <dcterms:modified xsi:type="dcterms:W3CDTF">2002-08-26T19:10:20Z</dcterms:modified>
  <cp:revision>9</cp:revision>
  <dc:subject/>
  <dc:title>LABEL A DIAGRAM</dc:title>
</cp:coreProperties>
</file>